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9F4-64FE-45FB-A2E4-7743B179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68D9-B47E-404D-A162-18E36B59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0AD12-5FD2-427A-9E5E-4E519924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903D1-6959-4E58-ADB5-E669F1DA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152A0-D480-4090-AC94-53718E18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5B146-6B01-4261-A0D2-7F4399DF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5CB88-626F-4D5F-917A-5B271CB8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7C77D-6CD1-4779-839A-3C7022F5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37FAD-DC2F-43BD-A6D8-28030EE3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77F6B-2499-4D86-AA73-ED7EC4F9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931D1-647E-49AE-9A2E-4E8012CA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47D-86A4-4077-9CA3-C0F7CE5E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359-14D2-4CDB-8F16-519385A3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6009-7312-459D-882F-CADA712F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5C68-9C13-424E-892C-22EB0906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E5FF-54F5-4733-9E90-1B4FE079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3574-2DF8-42B9-8F30-44409F5A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84E9-45CE-4BB6-B226-9BDB8AB9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66AF-0706-4AA9-A24A-543AFCED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B2D7-D8FC-4BA0-A198-9CA147EF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691-EE20-4653-A4A9-C0974DBC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3A9D-C075-4285-966E-A919D26F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EF98-012D-478A-9415-305A20FB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79BA-A903-4542-BFD6-68AEB663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9BF7-F542-439F-B2CD-56C4AA74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8A4B-9B59-4DC0-80FA-47A49ECD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C1FF9-4513-4F95-B4CD-2AA3531F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F56F2-FD2C-41E7-B86E-E6170073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A2C9-3508-4E78-87E4-1B156461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B5B13-9E48-4A3B-A2B2-3DBCA2F4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FA1FF-7E40-4863-9725-1701627F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551-32B8-4D3C-8E38-3F80AF69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D6FC2-D62A-4C37-B565-0B35C9EB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2A08-3A5C-4BCF-BC05-A67A8E69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69FE7-AF14-40C5-BC7B-352B5B50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EFEA-FB6E-4285-9266-EA43D0C6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9451-4B3C-402A-9318-E19AB79D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995D3-A2AC-477F-B174-5A5C064C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272A9-050F-45F4-A886-5E011A19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69EE4-0784-436F-B512-4CE50C24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CF345-275C-4E8D-B354-0ADDF067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1AD1E-0ED8-48C7-B86A-C41765B4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EAFF-FA2F-4BCD-9783-8F057084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DC00-50EA-4C04-B47A-C4F094F3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11736-9A21-4F1D-BD4F-DA6C0293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9912C-0418-4463-B60F-7B046ECD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799CD-8ACF-46A1-982A-7044F834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D9FC0-FDF6-476C-9EC7-DE80AF18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D3582-3ED8-4424-AA13-AAF03063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78F5E-5E21-4BC8-A0EB-602888AA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7C204-59B5-4042-9614-2389488E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B9584-589E-4D5D-8C0A-52A1EB0D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BDD00-69B2-4EE4-A93A-FCCFD463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9AB-50C6-4056-85CF-1F688B95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8D1C4-5D4A-4775-AE67-8428F09D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6D569-BE53-44BD-ACAF-A412025F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10C4C-DF91-4B39-B23F-17004BE2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D82C9-701E-46CE-8BA4-82208194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A7BC8-8A9E-4780-B2B7-EEACE7E3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F03DB-6E5A-4FAA-BD42-19071E65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B8AFF-5433-4D7C-8C5F-EBE2491E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CC8DF-9D0B-4BEE-A07B-C3CF3E24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AA3C6-BD8C-4D0D-8C3F-09F8DFD5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78610-EFD9-4535-8BBF-D95FA6E2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F9B-54B6-4264-879B-DE6E9E41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52AD0-2CD1-4B9C-BF69-57059959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B52D9-410A-4D76-BF59-AC2140DD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36193-F310-4C37-BEAD-D8DFB297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5BD77-E863-4BC1-B015-769A6AA5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159F4-DE25-4ACD-9403-E2EBD519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F2196-83E3-4CB8-9BCE-4DF3FC33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1056A-9A8C-48B5-9E2B-C2A19284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B617D-A718-4A10-B5C2-482FF898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1F07C-FC35-4074-B5C7-28C4A7BE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F730A-728B-4566-ADBC-FB7E932D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A6E-245C-40E8-8E44-E571A452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C4847-190D-4A75-8432-F7A3F80C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D3668-1BB0-45BC-BDD2-75F440D3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41B23-3EEB-4D20-A7D0-3F70F9FF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90814-4144-493E-83DD-28EB05C2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9996A-8BA7-4B2A-B473-FD9B5389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A76BC-6981-4869-A566-9E490E38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00370-0881-4214-A343-C1DFC179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1B5EE-462E-40B8-971B-0B08547F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70168-7590-4867-B4FA-5AF2A2DF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6D789-2856-4613-923F-2326588D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1EE-3393-4616-AFAD-9DF31BCE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5B55B-F832-4CF1-949E-FB3B2B70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E1414-A422-42F6-8174-9055F95F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A1B0F-29F3-4DEF-96BC-21E2F1AA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C1CE3-CE93-432C-8F66-75A47194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FE3AB-DB0B-40F7-8F72-AEBB78AE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908C6-B055-4789-8A86-FE789E45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CB38C-D3A2-4B6F-A696-C874CA74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3E5C9-3EBE-496A-AD57-EB0C7421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17716-1D97-4174-B09A-7FF7417A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4FEDE-0B42-4CBC-9B49-254E2236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A53-49CE-47C3-8A52-A0683F7C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80FE9-55A6-476A-BA4D-E6DDBF6A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1C11E-D484-402F-97EF-B04765C3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30E0A-C90F-4FD4-872A-C332B534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06878-B799-4FC8-AEEC-AC9CE520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522C6-3088-4690-BAA6-6F144FC5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F93BC-9B3D-4C20-8462-F6BF7848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87F18-D94D-4A69-96E3-F21E610E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F5B3C-E12D-4EAD-8DF6-DEC7EF2C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9F0BC-0219-4594-889B-86F79931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CE7B4-BAE7-4D78-939C-B1C46E15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78D5-15E8-4BAA-A63A-81BF03AFA42B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ector reto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8D91-A6EB-4AD7-A8C4-CB0783D9951C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4773-932D-4E6A-B49B-8AB31F782A14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ector reto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F6E3-46B1-4680-9C68-42D4B25B8B7A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ector reto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AA83-6BD5-4C84-989C-A5608CEBCF3C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F2EC-CF77-422D-B44F-4259DF5A9487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ector reto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5FC3-5FAB-4B9D-946F-FFF69144789D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A82E-A7DE-47A3-8048-B5DCA1AF1AE0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4BFE-576F-4930-A0E5-7A4AB8AF0EA0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ítulo 3" descr=""/>
          <p:cNvPicPr/>
          <p:nvPr/>
        </p:nvPicPr>
        <p:blipFill>
          <a:blip r:embed="rId1"/>
          <a:stretch/>
        </p:blipFill>
        <p:spPr>
          <a:xfrm>
            <a:off x="-115920" y="-79200"/>
            <a:ext cx="948528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tângulo 1"/>
          <p:cNvSpPr/>
          <p:nvPr/>
        </p:nvSpPr>
        <p:spPr>
          <a:xfrm>
            <a:off x="214200" y="28584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ossibilidades de avaliação com uso das TIC na EEJ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tângulo 2"/>
          <p:cNvSpPr/>
          <p:nvPr/>
        </p:nvSpPr>
        <p:spPr>
          <a:xfrm>
            <a:off x="214200" y="1428840"/>
            <a:ext cx="87156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Utilização do blog - professor disponibiliza  links para que o aluno desenvolva a atividad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esquisa orientada – o professor orienta o aluno durante a pesquisa na STE, solicitando o registro em slides/vídeos/síntes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Utilização da lousa digital interativa – material previamente preparado pelo professor, da internet ou ainda o próprio material disponível no recur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des Sociais –  grupos no facebook , onde o professor disponibiliza atividades, bem como todo o material de apoio ao alun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tângulo 1"/>
          <p:cNvSpPr/>
          <p:nvPr/>
        </p:nvSpPr>
        <p:spPr>
          <a:xfrm>
            <a:off x="357120" y="14292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scrição de duas situações de avaliação na EEJAR com uso das 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tângulo 2"/>
          <p:cNvSpPr/>
          <p:nvPr/>
        </p:nvSpPr>
        <p:spPr>
          <a:xfrm>
            <a:off x="500040" y="1643040"/>
            <a:ext cx="81439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@ Pesquisa orientada – avalia-se durante a pesquisa e também na apresentação final que acontece para toda a turma, seja do vídeo ou dos slid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@ Uso do facebook – comentários dos alunos sobre conteúdos disponibilizados pelo profess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tângulo 1"/>
          <p:cNvSpPr/>
          <p:nvPr/>
        </p:nvSpPr>
        <p:spPr>
          <a:xfrm>
            <a:off x="285840" y="285840"/>
            <a:ext cx="857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rientações aos professores regentes da EEJAR a fim de melhorar a avaliação formativa com uso das TIC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tângulo 2"/>
          <p:cNvSpPr/>
          <p:nvPr/>
        </p:nvSpPr>
        <p:spPr>
          <a:xfrm>
            <a:off x="500040" y="2071800"/>
            <a:ext cx="81439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@ Propor atividades que instiguem a produção/interação do alu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@ Divulgar as propostas que deram bons resultados para toda a comunidade escolar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@ Delimitar conteúdo durante a pesquisa orientada e indicar fontes segura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@ Dar o feedback das atividades solicitada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@ Propor atividades interdisciplinares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22:06:07Z</dcterms:created>
  <dc:creator>Aluno</dc:creator>
  <dc:description/>
  <dc:language>en-US</dc:language>
  <cp:lastModifiedBy>PARTICULAR</cp:lastModifiedBy>
  <dcterms:modified xsi:type="dcterms:W3CDTF">2015-09-01T00:19:33Z</dcterms:modified>
  <cp:revision>14</cp:revision>
  <dc:subject/>
  <dc:title>Escola Estadual José Alves Ribeiro Rochedo/MS   GED – NTE Regional   Tema 25 - Avaliação de aprendizagem e os recursos tecnológicos   PROGETEC: Rosiley Pereira Alves</dc:title>
</cp:coreProperties>
</file>